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D85-3FE2-479F-9190-6EEBEC9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70B-189C-49D6-8CDE-E5807EE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E1C-A02E-4D66-B40E-DDB7D554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8CC-67ED-48F9-9345-F74BCAD4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C31-C23C-40CD-A72C-3002D4E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58C-EE91-4A2D-9775-0001844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B07-5BED-4763-B90E-8C9748F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400-24FD-42BA-9CB6-2DE74D8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B09-8B04-40F5-83DB-611578C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D26-6151-4C71-98F9-B206E09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FFD-4F82-4834-930D-0E91C93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585-3DA2-4DDD-9381-85F0299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4953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A1B-3622-4DA6-AA4D-7BAD6025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Blanc (1813-18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d the vote for the working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that social problems could be solved by governmen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Anarc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jected industry and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. Marx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Marx (1818-18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a Jewish lawyer who converted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ist born in Rhin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95720" y="1600200"/>
            <a:ext cx="334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xism was one of many competing socialis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cause of claims to scientific accuracy, rejection of reform, and call for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with Friedrich En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els (1820-1895) wro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ondition of the Working Class in Engl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howed dark side of industrial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wro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ommunist Manifes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8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French socialism, British economics, and Hegelian view of huma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socialism – Utopian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– based on capitalism of Adam Smith and provided a scientific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Hegel and history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ed that thought develops from the clash of thesis and antithesis into a new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a pattern and a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x applied thesis and antithesis into competing soci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unist Manife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ed that “the history of all previously existing society is the history of class strugg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lass had always exploited the other – now was a conflict between the middle class (bourgeoisie) and the modern working class (proletari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proletariat got richer, while ever-poorer proletariat grew in size and in class-consciousness – proletariat was aided by bourgeoisie who had gone over to them - the proletariat would conquer the bourgeoisie in a violent revolution – set up a dictatorship of the proletariat to operate the means of production – this would lead to a propertyless and classless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letarians have nothing to lose but their chains.  They have a world to win.  WORKING MEN OF ALL COUNTRIES, UNIT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based on liberalism and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on by romantic impulse, economic crisis, and food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failed, but ended it ended the Congress of Vienna and the Concert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 Philippe (r. 1830-18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 monarch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eople rose up against him and built barricades in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icated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Util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ized by Jeremy Ben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ght to create codes of scientific law founded on the principle of utility, the greatest happiness for the greate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cade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82680" y="1600200"/>
            <a:ext cx="6578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manhood suff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a ten-hour workday fo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between two classes of revolut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class opposed radica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s committed to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74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746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works program that put unemployed people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elections to National Assembly won by moderates and conser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– radical artisans overtook the Assembly until put down by the National 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Days – the government shut down national workshops – led to violent uprising in the streets called the June Days – 10,000 people dead or 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– people elected Louis Napoleon (Napoleon’s nephew) for stability and grea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1851 – Napoleon seized power – became Emperor Napoleon III in a plebiscite in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oleon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46240" y="1600200"/>
            <a:ext cx="325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na upri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cal students inspired by Louis Kossuth led disturb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ernich and the government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government feared agitation in the countryside and freed the se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y emancipated its se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Kossuth – Hungarian natio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yars – Hungarian nobles – wanted more independence from Vi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n autonomous, unified and centralized Hungarian nation within Austri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y included Croats, Serbs, and Romanians who resisted Magy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Koss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32040" y="1600200"/>
            <a:ext cx="367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gue and Czech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emians wanted to be autonomous like Hung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pan-Sla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 in Prague shut down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P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s wanted to unite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Frederick William IV promised a liberal constitution and to merge Prussia into a new Germa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kfurt Assemb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to put together a constitution for German un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Frederick William to the be the king, but he refused and asserted his rule by divin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Poli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e of Nation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Lud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ed craftsmen who attacked the machines that they believed threatened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974960"/>
            <a:ext cx="40384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The Crim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wanted to take advantage of crumbling Ottoman Empire and seize some of its territory in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in charge of Ottoman Empires Orthodox Christians – France responsible for Roman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8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attacked Ottoman Empire because right to protect Christians in Palestine given to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8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and British declare war on Russia to protect naval and commerci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o ensure Russia does not dominate Ottom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ia and Prussia st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Paris (18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lost land and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death toll (25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nce Nightingale, British nurse, insisted on strict sanitary 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creation of nursing as a profession of trained, middle-class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ar covered with new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ended the Concert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ence Nighting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7816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The Unification of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ngress of Vienna most of Italy under Austrian d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tic nation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ri (“charcoal burners) – secret societies planning a revolution to create an Italian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orgimento – resu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00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ussepe Mazzini (1805-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272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“Young Italy” whose goal was the creation of a united Italian re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zz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10040" y="1600200"/>
            <a:ext cx="292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8 in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lions began in papa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of Piedmont invaded Lombardy (controlled by Austria) and lost –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9 - Austria reestablished control of Italy, except Pied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Victor Emmanuel (1849-1878) of Piedmont named Count Camillo di Cavour (1810-1861) his prime 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our – wanted to unite Italy economically, not romantically, and rejected republic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ewd politician (Machiavellia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8 – Cavour alliance with France and Napoleon III – Piedmont would acquire the states in Upper Italy and France would receive Nice and Sav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 – Cavour provoked Austria to invade Piedmont – French defeated Austria, but made peace with Austria without telling Piedm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useppe Garibal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tic natio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0 – Successfully led an army of volunteer Red Shirts from Sicily and the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vo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invade Rome because protected by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ibaldi yielded to Cavour instead of provoking a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our and Garibal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7640" y="2286000"/>
            <a:ext cx="3092400" cy="3129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35680" y="1600200"/>
            <a:ext cx="326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Char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in Eng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ed universal male suffrage, payment for members of Parliament, and annual sessions of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develop a working-class consciousness in millions of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861 – new kingdom of Italy proclaimed with a centralized government and led by King Victor Emmanuel II of Pied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unite conquered people – used ‘transformismo’ to bribe government suppo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6 - Venetia joined during the Austro-Prussi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0 – Rome joined when the French withdrew because of the Franco-Prussi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098720"/>
            <a:ext cx="822960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The Unification of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llverein – German customs union formed in 1834 to stimulate trade of its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8 – Frankfurt Assembly failed to unite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deutsch – large Germany including 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deutsch – smaller Germany excluding A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between East and West 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strong a strong king with weak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1 – King William I (1861-1888)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to reform the army – double size, compulsory military service – parliament rejected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2 – appointed Count Otto von Bismarck Prime Min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ma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ker, aristocrat, industrialist, brilliant poli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polit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actical, pragmatic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parliament, collected the taxes, and improved the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91120" y="1600200"/>
            <a:ext cx="31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arck’s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d that Prussia would only be fighting one power and that opponent would be isolated dipl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sh War (18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 tried to take north German territories, Schleswig and Hol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 joined with Austria and defeated Denm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ssia took Schleswig, Austria took Hol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stro Prussian War / Seven Weeks War (18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arck ensured Russian neutrality, promised Napoleon III territory in Rhineland, and promised the new Italian state Venetia if it defeated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1866 – Prussia goaded Austria into war and easily w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 lost only Venetia, but was excluded from German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German Confed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 annexed territory in N. Germany that supported A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appearance, but no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iberals preferred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nco-Prussian War (1870-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throne was offered to Prince Leopold, a distant relative of Willia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surrounded by Prussia - objected and caused Leopold to withdraw his candidacy – he did - French pushed King William I to promise never to allow Leopold to be a candidate again – King ref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s telegram – William sent Bismarck a telegram about meeting - Bismarck edited it to make it appear insulting to the French so that they would declare war and he could unite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Utopian So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ed private property and competition and emphasized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attitudes toward women and sex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ed by the French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te de Saint-Simon (1760-18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that society should be run by experts standing abov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5, 1870 – French declared war on P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in southern Germany joined the Northern Confederation because of military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, 1870 – Battle of Sedan – Prussia won and Napoleon III was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8, 1871 – war ended – France gave up the provinces of Alsace and Lo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8, 1871 – William I was declared Kaiser (or emperor) of the Second Germany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57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sm triumphed over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prepared to industri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Fourier (1772-18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mall model communities called phalansteries – based on communal living of 1600 men, women, and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performed a number of tasks – no bor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hala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152568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Owen (1771-18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anark, Scotland – factory town that was a healthy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eveloped pride in community, productivity rose, profit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3188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3:03:00Z</dcterms:created>
  <dc:creator> </dc:creator>
  <dc:description/>
  <dc:language>en-US</dc:language>
  <cp:lastModifiedBy> </cp:lastModifiedBy>
  <dcterms:modified xsi:type="dcterms:W3CDTF">2005-02-10T23:32:57Z</dcterms:modified>
  <cp:revision>8</cp:revision>
  <dc:subject/>
  <dc:title>Mid-19th Century Politics</dc:title>
</cp:coreProperties>
</file>